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5FB279-7D29-4186-B452-F96AF68A47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F79459-2CB7-48F2-9E8B-F70F8B1FCB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83D9F6-A1A6-4106-A208-303C9D6BCD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5B9B99-4E43-47E6-8D9F-96533CCB51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BE1830-2E9B-4C1F-877B-04D809C93B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09073B-7B97-40BF-9301-077AA46F18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DC7F7F-23F7-4B98-A61E-C8081EEED0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5BF8B5-CEEB-4E7F-A430-33723E77A2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599B13-39B6-42E9-AC9E-B233C6EFB7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6A48B3-2528-4686-94D6-1E276679DF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F9AFF2-0DB6-40EF-997E-4E256E80FA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BAADCC-4E09-4500-8426-A2CE8865E7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7227A5-BEC7-4F86-B53E-0826D1EF89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79BB80-14A9-4DF6-BA46-FB9F94967C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3A4762-22B0-47B4-B41C-6B0917B045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C4FF13-206A-4574-A7E0-1DF7DE26F6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A8BA8C-7842-4346-9FC0-35ECCE50C3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9706B0A-2179-4E11-B21A-3F87CB5A6C9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6ABEDB-2853-41C6-8CBC-F030143815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25EF35-723F-475C-9C96-4EAB16DA11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16C904-C502-4058-89AC-501B72F3AE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7B0755-DFE8-4D56-8196-4C2E096BBF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63E7E5-6A46-4BF4-A4F4-676B83A232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AA2F7F-FBE6-4339-A1D4-44F28C3F59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05D50E-B83E-4B53-B3FD-74171971CB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6EDB27-B53E-47D7-8DFA-9DC54007D4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3F1481-63D2-49E4-891A-3F92A3B200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3B6A83-EB85-4279-98F9-471DCD42A9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7906200-D8E8-46AA-B2E4-172D0F7EDF7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6C6A1D2-6076-4637-9FAD-4AD73A170B0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51D812D-A583-4021-A1F7-BC7AA563AD3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F92280-FAA0-48D4-9B5E-AA4F885815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FFD684-ABB5-47EF-B77F-51C2F31366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655B96-EFBC-43F3-85FD-E027597596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82CBA5-E1D4-481B-AFEF-C37E159DA8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605F42-BA66-4996-BE32-6FEB12C79A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C98E0E-4524-4363-9DF6-CC75CE2FD6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2DAB9B-A183-474F-AB71-9175E7D7E8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09F08E-3B41-4221-8661-7929142DA3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F30F34-B626-48A5-9290-C2613DCC2E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914EC7-896A-4F14-908F-877D117B6D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30033B2-6C1B-4E73-88A8-EE22A23FD37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CE60FB0-AB56-4772-A168-5A31D349B0B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228FEE-7C46-4A8D-B0A2-C230A861A8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98ED87-27FF-4F73-AABF-016BA8A03F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41B76-21E1-4217-8E8C-9BE73F1067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9D504-C383-4537-961A-65F021D6C0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7E95E-F3E5-454E-8F34-8456D4242D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099AE-994C-4AA6-B684-9C40AB6A7C59}"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4F2A2-5505-4034-91D0-AA8498939E7E}"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386B1-642A-4E7C-B79B-5089F979951F}"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F333D-8B65-4484-9538-0883BE79886C}"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682560" y="-542880"/>
            <a:ext cx="8467920" cy="3273480"/>
          </a:xfrm>
          <a:prstGeom prst="rect">
            <a:avLst/>
          </a:prstGeom>
          <a:ln w="0">
            <a:noFill/>
          </a:ln>
        </p:spPr>
      </p:pic>
      <p:sp>
        <p:nvSpPr>
          <p:cNvPr id="196" name="PlaceHolder 1"/>
          <p:cNvSpPr>
            <a:spLocks noGrp="1"/>
          </p:cNvSpPr>
          <p:nvPr>
            <p:ph type="subTitle"/>
          </p:nvPr>
        </p:nvSpPr>
        <p:spPr>
          <a:xfrm>
            <a:off x="1371600" y="3657600"/>
            <a:ext cx="6400800" cy="1752480"/>
          </a:xfrm>
          <a:prstGeom prst="rect">
            <a:avLst/>
          </a:prstGeom>
          <a:noFill/>
          <a:ln w="0">
            <a:noFill/>
          </a:ln>
        </p:spPr>
        <p:txBody>
          <a:bodyPr lIns="0" rIns="1836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nstantia"/>
              </a:rPr>
              <a:t>By: Christina Michalek</a:t>
            </a:r>
            <a:endParaRPr b="0" lang="en-US" sz="2600" spc="-1" strike="noStrike">
              <a:solidFill>
                <a:srgbClr val="ffffff"/>
              </a:solidFill>
              <a:latin typeface="Constantia"/>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nstantia"/>
              </a:rPr>
              <a:t>ED 702.22</a:t>
            </a:r>
            <a:endParaRPr b="0" lang="en-US" sz="2600" spc="-1" strike="noStrike">
              <a:solidFill>
                <a:srgbClr val="ffffff"/>
              </a:solidFill>
              <a:latin typeface="Constantia"/>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nstantia"/>
              </a:rPr>
              <a:t>Fall 2008</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680"/>
            <a:ext cx="8229600" cy="8683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Table of Contents</a:t>
            </a:r>
            <a:endParaRPr b="0" lang="en-US" sz="5000" spc="-1" strike="noStrike">
              <a:solidFill>
                <a:srgbClr val="04617b"/>
              </a:solidFill>
              <a:latin typeface="Calibri"/>
            </a:endParaRPr>
          </a:p>
        </p:txBody>
      </p:sp>
      <p:sp>
        <p:nvSpPr>
          <p:cNvPr id="19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troduct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tatement of the Proble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iterature Review</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esearch Hypothesi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6397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alibri"/>
              </a:rPr>
              <a:t>Statement of Problem</a:t>
            </a:r>
            <a:endParaRPr b="0" lang="en-US" sz="4500" spc="-1" strike="noStrike">
              <a:solidFill>
                <a:srgbClr val="04617b"/>
              </a:solidFill>
              <a:latin typeface="Calibri"/>
            </a:endParaRPr>
          </a:p>
        </p:txBody>
      </p:sp>
      <p:sp>
        <p:nvSpPr>
          <p:cNvPr id="200" name=""/>
          <p:cNvSpPr txBox="1"/>
          <p:nvPr/>
        </p:nvSpPr>
        <p:spPr>
          <a:xfrm>
            <a:off x="457200" y="990360"/>
            <a:ext cx="8229600" cy="5135400"/>
          </a:xfrm>
          <a:prstGeom prst="rect">
            <a:avLst/>
          </a:prstGeom>
          <a:noFill/>
          <a:ln w="0">
            <a:noFill/>
          </a:ln>
        </p:spPr>
        <p:txBody>
          <a:bodyPr anchor="t">
            <a:normAutofit/>
          </a:bodyPr>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In today’s world, more and more children are being born into single-parent households.  It is a trend that is becoming very common.  As a result, children’s academic achievement is being affected.  Some researchers state that achievement is being affected negatively, while others state that the type of household a child is brought up in affects academic achievemen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6397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alibri"/>
              </a:rPr>
              <a:t>Literature Review</a:t>
            </a:r>
            <a:endParaRPr b="0" lang="en-US" sz="4500" spc="-1" strike="noStrike">
              <a:solidFill>
                <a:srgbClr val="04617b"/>
              </a:solidFill>
              <a:latin typeface="Calibri"/>
            </a:endParaRPr>
          </a:p>
        </p:txBody>
      </p:sp>
      <p:sp>
        <p:nvSpPr>
          <p:cNvPr id="202" name=""/>
          <p:cNvSpPr txBox="1"/>
          <p:nvPr/>
        </p:nvSpPr>
        <p:spPr>
          <a:xfrm>
            <a:off x="457200" y="990360"/>
            <a:ext cx="8229600" cy="513540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eatherstone, Cundick, &amp; Jensen (2002) focus on different variables that may affect student academic achievement.  Such factors include gender, socioeconomic status, and family type.Their research stated two different viewpoints, focusing on the impact of fathers in a household.</a:t>
            </a:r>
            <a:endParaRPr b="0" lang="en-US" sz="2400" spc="-1" strike="noStrike">
              <a:solidFill>
                <a:srgbClr val="000000"/>
              </a:solidFill>
              <a:latin typeface="Constantia"/>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rks (2006) developed a cross-cultural study where he found that socioeconomic backgrounds are another issue that affects academic achievement of children.  In a single parent family, only one income is being gathered.  This limits families with the resources and support that children need at home and in school.</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457200" y="533160"/>
            <a:ext cx="8229600" cy="5592600"/>
          </a:xfrm>
          <a:prstGeom prst="rect">
            <a:avLst/>
          </a:prstGeom>
          <a:noFill/>
          <a:ln w="0">
            <a:noFill/>
          </a:ln>
        </p:spPr>
        <p:txBody>
          <a:bodyPr anchor="t">
            <a:normAutofit fontScale="99000"/>
          </a:bodyPr>
          <a:p>
            <a:pPr marL="270000" indent="-2700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arental involvement is one of the major issues that affects academic achievement.  If parents are not capable of providing time for their children, the lives of the children will be affected.  Parents should not only be involved at home, but in school as well.  The National Center for Education Statistics (1997) reported that children from grades 6 through 12 earned A’s if their parents were involved in school activities (Min Lee, Kushner, &amp; Ho Cho, 2007).</a:t>
            </a:r>
            <a:endParaRPr b="0" lang="en-US" sz="2400" spc="-1" strike="noStrike">
              <a:solidFill>
                <a:srgbClr val="000000"/>
              </a:solidFill>
              <a:latin typeface="Constantia"/>
            </a:endParaRPr>
          </a:p>
          <a:p>
            <a:pPr marL="270000" indent="-2700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arlsen (1993) researched the “Family-School Research Project” which is designed to determine any patterns that are evident between the life of a child at home and their successes in school.  Carlsen (1993) also goes on to mention the factor of parental support as an affect of student academic achievement. </a:t>
            </a:r>
            <a:endParaRPr b="0" lang="en-US" sz="2400" spc="-1" strike="noStrike">
              <a:solidFill>
                <a:srgbClr val="000000"/>
              </a:solidFill>
              <a:latin typeface="Constantia"/>
            </a:endParaRPr>
          </a:p>
          <a:p>
            <a:pPr marL="270000" indent="-2700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457200" y="380880"/>
            <a:ext cx="8229600" cy="6073920"/>
          </a:xfrm>
          <a:prstGeom prst="rect">
            <a:avLst/>
          </a:prstGeom>
          <a:noFill/>
          <a:ln w="0">
            <a:noFill/>
          </a:ln>
        </p:spPr>
        <p:txBody>
          <a:bodyPr anchor="t">
            <a:normAutofit fontScale="94000"/>
          </a:bodyPr>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t>
            </a:r>
            <a:r>
              <a:rPr b="0" lang="en-US" sz="2400" spc="-1" strike="noStrike">
                <a:solidFill>
                  <a:srgbClr val="000000"/>
                </a:solidFill>
                <a:latin typeface="Constantia"/>
              </a:rPr>
              <a:t>The Future of Children” (2008) mentions a few different issues that need to be considered when discussing single parent families.  Parental support and economic hardship are amongst the several factors of academic achievement.  The article also mentions discipline issues.  Single parents are not able to set ground rules for their children, so expectations cannot be set in the household.</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him, Felner, &amp; Shim (2000) focus on how family structure affects achievement.  The main part of their research is that parental expectations of their children was the predictor of how their children performed academically.  If parents established high expectations for their children, then they would perform well in school.  If no expectations were set, students performed poorly and became stressed.</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457200" y="228240"/>
            <a:ext cx="8229600" cy="6226200"/>
          </a:xfrm>
          <a:prstGeom prst="rect">
            <a:avLst/>
          </a:prstGeom>
          <a:noFill/>
          <a:ln w="0">
            <a:noFill/>
          </a:ln>
        </p:spPr>
        <p:txBody>
          <a:bodyPr anchor="t">
            <a:normAutofit fontScale="97000"/>
          </a:bodyPr>
          <a:p>
            <a:pPr marL="264600" indent="-26460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n article found in </a:t>
            </a:r>
            <a:r>
              <a:rPr b="0" i="1" lang="en-US" sz="1800" spc="-1" strike="noStrike">
                <a:solidFill>
                  <a:srgbClr val="000000"/>
                </a:solidFill>
                <a:latin typeface="Constantia"/>
              </a:rPr>
              <a:t>One Parent Families Scotland</a:t>
            </a:r>
            <a:r>
              <a:rPr b="0" lang="en-US" sz="1800" spc="-1" strike="noStrike">
                <a:solidFill>
                  <a:srgbClr val="000000"/>
                </a:solidFill>
                <a:latin typeface="Constantia"/>
              </a:rPr>
              <a:t> (2001) states that it is “less desirable for children to be brought up by one parent than two parents.”  This is a common statement amongst many different researchers.  The article focuses most importantly on why single parent families affect academic achievement.</a:t>
            </a:r>
            <a:endParaRPr b="0" lang="en-US" sz="1800" spc="-1" strike="noStrike">
              <a:solidFill>
                <a:srgbClr val="000000"/>
              </a:solidFill>
              <a:latin typeface="Constantia"/>
            </a:endParaRPr>
          </a:p>
          <a:p>
            <a:pPr marL="264600" indent="-26460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64600" indent="-2646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Jeynes (1998) takes another approach where remarriage and reconstructed families are considered.  In a reconstructed family, parents were separated/divorced and the parents remarried someone else.  This may not benefit all children even though there is now a two parent household.  There may be hatred and anger towards the “new” parent coming from the children.</a:t>
            </a:r>
            <a:endParaRPr b="0" lang="en-US" sz="2000" spc="-1" strike="noStrike">
              <a:solidFill>
                <a:srgbClr val="000000"/>
              </a:solidFill>
              <a:latin typeface="Constantia"/>
            </a:endParaRPr>
          </a:p>
          <a:p>
            <a:pPr marL="264600" indent="-264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4600" indent="-2646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mato (2005) agrees with the previous researchers.  He states that children in single parent families face cognitive, social, and emotional problems.  These problems reflect in their academic achievement.  Amato (2005) states hypotheses on what he thinks the future will bring, after the implementation of different interventions that may help children in single parent families.</a:t>
            </a:r>
            <a:endParaRPr b="0" lang="en-US" sz="2000" spc="-1" strike="noStrike">
              <a:solidFill>
                <a:srgbClr val="000000"/>
              </a:solidFill>
              <a:latin typeface="Constantia"/>
            </a:endParaRPr>
          </a:p>
          <a:p>
            <a:pPr marL="264600" indent="-2646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533520" y="304920"/>
            <a:ext cx="3581280" cy="1295280"/>
          </a:xfrm>
          <a:prstGeom prst="rect">
            <a:avLst/>
          </a:prstGeom>
          <a:noFill/>
          <a:ln w="0">
            <a:noFill/>
          </a:ln>
        </p:spPr>
        <p:txBody>
          <a:bodyPr lIns="45720" rIns="45720" tIns="0" bIns="0" anchor="ctr">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Constantia"/>
              </a:rPr>
              <a:t>Family Deficit Model</a:t>
            </a:r>
            <a:endParaRPr b="0" lang="en-US" sz="3200" spc="-1" strike="noStrike">
              <a:solidFill>
                <a:srgbClr val="000000"/>
              </a:solidFill>
              <a:latin typeface="Constantia"/>
            </a:endParaRPr>
          </a:p>
        </p:txBody>
      </p:sp>
      <p:sp>
        <p:nvSpPr>
          <p:cNvPr id="207" name="PlaceHolder 2"/>
          <p:cNvSpPr>
            <a:spLocks noGrp="1"/>
          </p:cNvSpPr>
          <p:nvPr>
            <p:ph/>
          </p:nvPr>
        </p:nvSpPr>
        <p:spPr>
          <a:xfrm>
            <a:off x="5105160" y="304920"/>
            <a:ext cx="3584520" cy="1218960"/>
          </a:xfrm>
          <a:prstGeom prst="rect">
            <a:avLst/>
          </a:prstGeom>
          <a:noFill/>
          <a:ln w="0">
            <a:noFill/>
          </a:ln>
        </p:spPr>
        <p:txBody>
          <a:bodyPr lIns="45720" rIns="45720" tIns="0" bIns="0" anchor="ctr">
            <a:normAutofit fontScale="89000"/>
          </a:bodyPr>
          <a:p>
            <a:pPr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4617b"/>
                </a:solidFill>
                <a:latin typeface="Constantia"/>
              </a:rPr>
              <a:t>Risk &amp; Protection Factor Model</a:t>
            </a:r>
            <a:endParaRPr b="0" lang="en-US" sz="3300" spc="-1" strike="noStrike">
              <a:solidFill>
                <a:srgbClr val="000000"/>
              </a:solidFill>
              <a:latin typeface="Constantia"/>
            </a:endParaRPr>
          </a:p>
        </p:txBody>
      </p:sp>
      <p:sp>
        <p:nvSpPr>
          <p:cNvPr id="208" name=""/>
          <p:cNvSpPr txBox="1"/>
          <p:nvPr/>
        </p:nvSpPr>
        <p:spPr>
          <a:xfrm>
            <a:off x="456840" y="1828440"/>
            <a:ext cx="4040280" cy="4343400"/>
          </a:xfrm>
          <a:prstGeom prst="rect">
            <a:avLst/>
          </a:prstGeom>
          <a:noFill/>
          <a:ln w="0">
            <a:noFill/>
          </a:ln>
        </p:spPr>
        <p:txBody>
          <a:bodyPr tIns="0" anchor="t">
            <a:normAutofit fontScale="96000"/>
          </a:bodyPr>
          <a:p>
            <a:pPr marL="261720" indent="-26172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wo parent household is ideal and normal.</a:t>
            </a:r>
            <a:endParaRPr b="0" lang="en-US" sz="2800" spc="-1" strike="noStrike">
              <a:solidFill>
                <a:srgbClr val="000000"/>
              </a:solidFill>
              <a:latin typeface="Constantia"/>
            </a:endParaRPr>
          </a:p>
          <a:p>
            <a:pPr marL="261720" indent="-26172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ingle parent families negatively impact children.</a:t>
            </a:r>
            <a:endParaRPr b="0" lang="en-US" sz="2800" spc="-1" strike="noStrike">
              <a:solidFill>
                <a:srgbClr val="000000"/>
              </a:solidFill>
              <a:latin typeface="Constantia"/>
            </a:endParaRPr>
          </a:p>
          <a:p>
            <a:pPr marL="261720" indent="-26172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61720" indent="-26172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61720" indent="-26172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61720" indent="-26172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Heatherington, Mavis, &amp; Kelly, 2002)</a:t>
            </a:r>
            <a:endParaRPr b="0" lang="en-US" sz="2200" spc="-1" strike="noStrike">
              <a:solidFill>
                <a:srgbClr val="000000"/>
              </a:solidFill>
              <a:latin typeface="Constantia"/>
            </a:endParaRPr>
          </a:p>
        </p:txBody>
      </p:sp>
      <p:sp>
        <p:nvSpPr>
          <p:cNvPr id="209" name=""/>
          <p:cNvSpPr txBox="1"/>
          <p:nvPr/>
        </p:nvSpPr>
        <p:spPr>
          <a:xfrm>
            <a:off x="4647960" y="1752480"/>
            <a:ext cx="4041720" cy="3353040"/>
          </a:xfrm>
          <a:prstGeom prst="rect">
            <a:avLst/>
          </a:prstGeom>
          <a:noFill/>
          <a:ln w="0">
            <a:noFill/>
          </a:ln>
        </p:spPr>
        <p:txBody>
          <a:bodyPr tIns="0" anchor="t">
            <a:normAutofit/>
          </a:bodyPr>
          <a:p>
            <a:pPr marL="272880" indent="-27288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oes not view single parent families as irregular.</a:t>
            </a:r>
            <a:endParaRPr b="0" lang="en-US" sz="2600" spc="-1" strike="noStrike">
              <a:solidFill>
                <a:srgbClr val="000000"/>
              </a:solidFill>
              <a:latin typeface="Constantia"/>
            </a:endParaRPr>
          </a:p>
          <a:p>
            <a:pPr marL="272880" indent="-27288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t does not support single parent families.</a:t>
            </a:r>
            <a:endParaRPr b="0" lang="en-US" sz="2600" spc="-1" strike="noStrike">
              <a:solidFill>
                <a:srgbClr val="000000"/>
              </a:solidFill>
              <a:latin typeface="Constantia"/>
            </a:endParaRPr>
          </a:p>
          <a:p>
            <a:pPr marL="272880" indent="-27288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owever, it does state that there are some strengths in a single parent household.</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6397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alibri"/>
              </a:rPr>
              <a:t>Research Hypothesis</a:t>
            </a:r>
            <a:endParaRPr b="0" lang="en-US" sz="4500" spc="-1" strike="noStrike">
              <a:solidFill>
                <a:srgbClr val="04617b"/>
              </a:solidFill>
              <a:latin typeface="Calibri"/>
            </a:endParaRPr>
          </a:p>
        </p:txBody>
      </p:sp>
      <p:sp>
        <p:nvSpPr>
          <p:cNvPr id="211" name=""/>
          <p:cNvSpPr txBox="1"/>
          <p:nvPr/>
        </p:nvSpPr>
        <p:spPr>
          <a:xfrm>
            <a:off x="457200" y="1066680"/>
            <a:ext cx="8229600" cy="505944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tudent academic achievement is affected by single-parent families.  Students who are a part of a single-parent family succeed less in school , as opposed to students who are a part of a two-parent family.  Factors such as lack of parental support and socioeconomic status affect student academic achievemen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5T02:36:44Z</dcterms:created>
  <dc:creator> </dc:creator>
  <dc:description/>
  <dc:language>en-US</dc:language>
  <cp:lastModifiedBy> </cp:lastModifiedBy>
  <dcterms:modified xsi:type="dcterms:W3CDTF">2008-10-22T20:33:29Z</dcterms:modified>
  <cp:revision>12</cp:revision>
  <dc:subject/>
  <dc:title>How Do Single – Parent Families Affect Student Academic Achievement?</dc:title>
</cp:coreProperties>
</file>